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9.png" ContentType="image/png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10.png" ContentType="image/png"/>
  <Override PartName="/ppt/media/image5.png" ContentType="image/png"/>
  <Override PartName="/ppt/media/image4.wmf" ContentType="image/x-wmf"/>
  <Override PartName="/ppt/media/image2.jpeg" ContentType="image/jpeg"/>
  <Override PartName="/ppt/media/image3.jpeg" ContentType="image/jpeg"/>
  <Override PartName="/ppt/media/image1.png" ContentType="image/png"/>
  <Override PartName="/ppt/media/image24.png" ContentType="image/png"/>
  <Override PartName="/ppt/media/image27.png" ContentType="image/png"/>
  <Override PartName="/ppt/media/image14.wmf" ContentType="image/x-wmf"/>
  <Override PartName="/ppt/media/image26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38BD-8306-4F6E-817C-10B493AE0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76BD-1694-46B2-AC38-B3B7A7058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47CF-05E6-46E4-90B3-384DFAF5D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E32D-65AA-44AF-ACB1-11C90DCDD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4E8B1-EDFB-4F42-89FD-16CE9EA32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9321D-0650-4E09-8FAE-2BA6B8526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AAA0D-45C8-4DB2-8BC3-74BA25152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A32E5-2C8E-479C-99E6-F09FABFAF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14457-8DF9-4FDA-B9DB-DAB1DC20C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2B6B9-1345-4BB9-A4AE-5AF97837B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159A7-F238-4045-9E87-EF4F9D75A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7DD4-AA33-4F4A-B372-FC9E92910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E590B-7E7B-49E6-8BA0-D09F0A750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85C73-829A-42E3-8C45-560FC5B2B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215FA-5350-4E9E-8F94-8EFA57C2D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E53D1-AD8B-4C4A-866A-0611D30A1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C06AC-87B7-4673-ABE0-5F65907B6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F516B-4C72-43C6-A744-E66F2098B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DC6E5-ABAA-492C-B66A-1083E7BFD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3CE5E-A016-4839-95F6-CAB05CD34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32DB1-8FD1-495E-A692-63D4FD90B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F3E50-E4D4-4939-BBF1-BE47CCD2A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0220-C86D-40F2-9386-3D23555C6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A133D-3349-4230-98DA-406C12C08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F993D-FA82-469F-8119-FBEFFA296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78DEE-DA23-40C6-BB95-5DD5A3FCD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03E67-4392-4BC5-BDDF-593C42349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27ADD-9357-494A-B085-4D95279FF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DD034-FE93-4FE1-9877-FDEA41B74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C6579-F543-4A25-95B8-0E276C27F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ED92-11F0-4933-A3A6-89F8E62C4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F17A-ACE8-475C-A596-C01BB845D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6C49-5BF6-4EA8-B823-61A59BFA7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AF3E-D4A4-4B55-9016-26394085D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4475-5BD1-4B79-9198-152927282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FE48-58A3-469F-85F5-5DCB89C9B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796D0-1F36-4355-8A77-B3DDEDAA0A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42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46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71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F65F7-1D68-42AD-964D-0D84890A4BF4}" type="slidenum">
              <a:rPr b="0" lang="it-IT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120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124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D71D8-8D9B-4949-8B2D-D78F7F017E80}" type="slidenum">
              <a:rPr b="0" lang="it-IT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416232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CAI" descr=""/>
          <p:cNvPicPr/>
          <p:nvPr/>
        </p:nvPicPr>
        <p:blipFill>
          <a:blip r:embed="rId1"/>
          <a:srcRect l="0" t="2193" r="0" b="0"/>
          <a:stretch/>
        </p:blipFill>
        <p:spPr>
          <a:xfrm>
            <a:off x="0" y="0"/>
            <a:ext cx="1827360" cy="14763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4716360" y="2349360"/>
            <a:ext cx="4427640" cy="464904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990000"/>
                </a:solidFill>
                <a:latin typeface="Arial"/>
              </a:rPr>
              <a:t>FABBISOGNI  ENERGETICI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990000"/>
                </a:solidFill>
                <a:latin typeface="Arial"/>
              </a:rPr>
              <a:t>PROGRAMMI  DI GOVERNO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990000"/>
                </a:solidFill>
                <a:latin typeface="Arial"/>
              </a:rPr>
              <a:t>SUPERINCENTIVI  per  F.E.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99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i="1" lang="it-IT" sz="1800" spc="-1" strike="noStrike">
                <a:solidFill>
                  <a:srgbClr val="990000"/>
                </a:solidFill>
                <a:latin typeface="Arial"/>
              </a:rPr>
              <a:t>Carlo Brambilla</a:t>
            </a:r>
            <a:r>
              <a:rPr b="1" i="1" lang="it-IT" sz="2400" spc="-1" strike="noStrike">
                <a:solidFill>
                  <a:srgbClr val="99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990000"/>
                </a:solidFill>
                <a:latin typeface="Arial"/>
              </a:rPr>
              <a:t>Commissione Centrale Tutela Ambiente Montano</a:t>
            </a:r>
            <a:br>
              <a:rPr sz="1600"/>
            </a:br>
            <a:r>
              <a:rPr b="1" i="1" lang="it-IT" sz="1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i="1" lang="it-IT" sz="1400" spc="-1" strike="noStrike">
                <a:solidFill>
                  <a:srgbClr val="990000"/>
                </a:solidFill>
                <a:latin typeface="Arial"/>
              </a:rPr>
              <a:t>Gruppo di lavoro “Energia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5084640"/>
            <a:ext cx="899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835280" y="1052640"/>
            <a:ext cx="2881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ub Alpino Itali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124000" y="0"/>
            <a:ext cx="3024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1835280" y="0"/>
            <a:ext cx="2881080" cy="107964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4716360" y="0"/>
            <a:ext cx="4427640" cy="23799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990000"/>
                </a:solidFill>
                <a:latin typeface="Arial"/>
              </a:rPr>
              <a:t>CONVEG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90000"/>
                </a:solidFill>
                <a:latin typeface="Arial"/>
              </a:rPr>
              <a:t>ENERGIA DALL’ACQUA IN MONTAGN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90000"/>
                </a:solidFill>
                <a:latin typeface="Arial"/>
              </a:rPr>
              <a:t>costi e benef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990000"/>
                </a:solidFill>
                <a:latin typeface="Arial"/>
              </a:rPr>
              <a:t>Parco delle Groane, 13 giugno 20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1557360"/>
            <a:ext cx="4716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0" y="1484280"/>
            <a:ext cx="471636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ertificati verdi (CV)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-36720" y="549360"/>
            <a:ext cx="9180360" cy="6308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titoli che certificano una quantità di energia elettrica prodotta da FE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usati per assolvere gli obblighi (per i produttori o importatori di energia da fonte non rinnov.), di immettere annualmente in rete una percentuale assegnata di energia da FE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rilasciati dal Gestore Servizi Elettrici (GSE), sono trasferibili e commerciabili a valori di mercat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istituiti con DL 164/00 per taglie produttive da 100 MWh, poi ridotte a 50 MWh, </a:t>
            </a:r>
            <a:r>
              <a:rPr b="1" i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sono oggi emessi per taglie da 1 MWh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con la L. finanziaria 2008, la quota d’obbligo di produz. FER aumenta dello 0,75% all’anno fino al 2012, a partire dal 3,05% fissato per il 2006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2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Dal 2008 i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CV hanno un valore di riferimento pari a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180 €/MWh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 meno il prezzo medio di cessione dell’energia dell’anno prima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78 €/MWh nel 2008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I CV non utilizzati dopo un triennio dall’emissione, sono ritirati dal GSE e pagati al prezzo di riferimento.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557600" y="3424320"/>
            <a:ext cx="28800" cy="936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4557600" y="3424320"/>
            <a:ext cx="28800" cy="93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5394240"/>
            <a:ext cx="9144000" cy="1472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l maggior incremento di potenza installata (87%) è dato dal potenziamento e rifacimento dei grandi e medi impianti preesistent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Quindi, le nuove realizzazioni risultano numericamente molto invasive, ma  poco significative per la produzione FER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0,1% prod. tot.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io CESI sui sistemi di incentivazione F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52280" y="836280"/>
            <a:ext cx="8839440" cy="5832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fronta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ue diversi sistemi d’incentivazion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er verificarne efficacia e costi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il primo è Riferito ai Costi di Produzione (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CP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 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evede l’erogazione dell’incentivo minimo per rendere ciascuna tecnologia teoricamente competitiva, rispetto alla tecnologia di riferimento,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ossia il ciclo combinato a gas naturale (tecnologia termoelettrica a maggior rendimento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il secondo considera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’incentivazione a Certificati Verdi Differenziati per Tecnologia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VD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 prevista dalla normativa attuale (Legge finanziaria 2008 – art. 30-ter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762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io CESI sui sistemi d’incentivazione alle 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4643280" y="1197000"/>
            <a:ext cx="4500720" cy="4464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4643280" y="5667480"/>
            <a:ext cx="4500720" cy="11912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’incentivo CVDT (linea rossa) raggiunge livelli ben maggiori del minimo necessario per la compensazione, soprattutto per le FER a basso costo di produzione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620640"/>
            <a:ext cx="4572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0" y="836640"/>
            <a:ext cx="4716360" cy="52578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0" y="5667480"/>
            <a:ext cx="4572000" cy="11912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massima incentivazione (step 4 – linea rossa) tende a compensare i costi di produzione più elevati fino al costo di riferi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476280"/>
            <a:ext cx="9144000" cy="7038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ronto tra incentivi erogabili col sistema riferito ai costi di produzione (RCP) e quello attuale dei certificati verdi differenziati per tecnologia (CVD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413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io CESI RICERCA sui sistemi d’incentivazione alle F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ronto tra gli sviluppi delle produzioni da FER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tenibili con il sistema RCP e con l’attuale sistema CVD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0" y="5345280"/>
            <a:ext cx="4500720" cy="15127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massima incentivazione del sistema RCP (step 4) promuoverebbe al 2020 il 90% della produzione annuale FER potenziale (91,4 TWh)  e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100 TWh al 2030 (quasi saturazione del potenziale disponib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0" y="1413000"/>
            <a:ext cx="4500720" cy="3887640"/>
            <a:chOff x="0" y="1413000"/>
            <a:chExt cx="4500720" cy="3887640"/>
          </a:xfrm>
        </p:grpSpPr>
        <p:pic>
          <p:nvPicPr>
            <p:cNvPr id="241" name="" descr=""/>
            <p:cNvPicPr/>
            <p:nvPr/>
          </p:nvPicPr>
          <p:blipFill>
            <a:blip r:embed="rId1"/>
            <a:stretch/>
          </p:blipFill>
          <p:spPr>
            <a:xfrm>
              <a:off x="0" y="1413000"/>
              <a:ext cx="4500720" cy="388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 txBox="1"/>
            <p:nvPr/>
          </p:nvSpPr>
          <p:spPr>
            <a:xfrm>
              <a:off x="0" y="1413000"/>
              <a:ext cx="4500720" cy="388764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4427640" y="620640"/>
            <a:ext cx="4716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476280"/>
            <a:ext cx="4788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4546440" y="1413000"/>
            <a:ext cx="4597560" cy="388764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4572000" y="5334120"/>
            <a:ext cx="4572000" cy="182988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l sistema CVDT è in grado di promuovere 99 TWh al 2020 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103 TWh al 2030, anticipando rispetto al sistema RCP la quasi saturazione del potenziale disponib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io CESI RICERCA sui sistemi d’incentivazione alle 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4629240" y="1197000"/>
            <a:ext cx="4514760" cy="487692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0" y="1197000"/>
            <a:ext cx="4586400" cy="48816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0" y="60213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 sistema CVDT comporta una erogazione di incentivi più che doppia rispetto al sistema RC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620640"/>
            <a:ext cx="896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fronto tra gli incentivi erogabili dai sistemi considerat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io CESI RICERCA sui sistemi d’incentivazione alle 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4648320" y="620640"/>
            <a:ext cx="4495680" cy="45720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0" y="620640"/>
            <a:ext cx="4648320" cy="45720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0" y="5181480"/>
            <a:ext cx="9144000" cy="18612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e riduzioni delle emissioni di CO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ttenibili al 2020 con incentivi RCP risultano di poco inferiori a quelle CVD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c0000"/>
                </a:solidFill>
                <a:latin typeface="Arial"/>
              </a:rPr>
              <a:t>Tale riduzione è largamente insufficiente per gli obiettivi di Kyoto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c0000"/>
                </a:solidFill>
                <a:latin typeface="Arial"/>
              </a:rPr>
              <a:t>Migliori risultati saranno ottenibili (dal 2015 ) dal sequestro e segregazione della </a:t>
            </a:r>
            <a:r>
              <a:rPr b="1" lang="it-IT" sz="2000" spc="-1" strike="noStrike">
                <a:solidFill>
                  <a:srgbClr val="cc0000"/>
                </a:solidFill>
                <a:latin typeface="Arial"/>
              </a:rPr>
              <a:t>CO</a:t>
            </a:r>
            <a:r>
              <a:rPr b="1" lang="it-IT" sz="20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r>
              <a:rPr b="1" lang="it-IT" sz="1800" spc="-1" strike="noStrike">
                <a:solidFill>
                  <a:srgbClr val="cc0000"/>
                </a:solidFill>
                <a:latin typeface="Arial"/>
              </a:rPr>
              <a:t>  prevista nei nuovi impianti (prototipo previsto nella centr. di Civitavecchia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io CESI RICERCA sui sistemi d’incentivazione alle 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463716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0" y="17524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ali indicatori economici relativi agli effetti dell’applicazione dei due sistemi di incentivazione studiati (rispetto ad uno scenario senza incentivazion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5257800"/>
            <a:ext cx="9144000" cy="1618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 fronte di una produzione cumulata maggiore del 16% rispetto al sistema RCP, il sistema CVDT richiede un esborso per incentivi più che doppio, che comporta un progressivo onere per i consumatori valutabile, dal 2020 in poi, tra 14 e 18 €/MWh  </a:t>
            </a:r>
            <a:r>
              <a:rPr b="0" lang="it-IT" sz="2000" spc="-1" strike="noStrike">
                <a:solidFill>
                  <a:srgbClr val="cc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  <a:ea typeface="Arial"/>
              </a:rPr>
              <a:t>~</a:t>
            </a:r>
            <a:r>
              <a:rPr b="0" lang="it-IT" sz="2000" spc="-1" strike="noStrike">
                <a:solidFill>
                  <a:srgbClr val="cc0000"/>
                </a:solidFill>
                <a:latin typeface="Arial"/>
              </a:rPr>
              <a:t>1,6 € cent /kWh)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contro 8 €/Mwh </a:t>
            </a:r>
            <a:r>
              <a:rPr b="0" lang="it-IT" sz="2000" spc="-1" strike="noStrike">
                <a:solidFill>
                  <a:srgbClr val="cc0000"/>
                </a:solidFill>
                <a:latin typeface="Arial"/>
              </a:rPr>
              <a:t>(0,8 €cent/kWh)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del sistema RC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79280" y="4724280"/>
            <a:ext cx="88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% rif. RCP             + 16%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 132%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+ 9%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+27%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+ 18%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+ 22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io CESI RICERCA sui sistemi di incentivazione 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0348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Parere dei grandi utenti elettrici su incentivi F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’associazione di Confindustria “Tavolo della Domanda”, che rappresenta le imprese grandi consumatrici di elettricità, scriv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Il sistema di incentivazione delle rinnovabili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invece di promuovere efficienza e competitività, garantisce ingiustificate rendite che nulla hanno a che vedere con competitività e sviluppo, con questo alimentando connivenze o sudditanze che di fatto sono sotto gli occhi di tutt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Iperincentivazione che gratifica l’inefficienz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laddove negli altri paesi europei, ad un incentivo verso le fonti rinnovabili bisognose di supporto allo sviluppo, sono affiancate misure di responsabilizzazione che correttamente evitano di aggravare inutilmente la collettività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Possibili risultati del piano italiano di crescita delle </a:t>
            </a:r>
            <a:br>
              <a:rPr sz="2000"/>
            </a:b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fonti rinnovabili e dell’efficienza energetica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A. Lorenzoni, Univ. Di Padova, Univ. Bocconi – da rivista AEIT maggio 200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0" y="1125360"/>
          <a:ext cx="9109080" cy="2984760"/>
        </p:xfrm>
        <a:graphic>
          <a:graphicData uri="http://schemas.openxmlformats.org/drawingml/2006/table">
            <a:tbl>
              <a:tblPr/>
              <a:tblGrid>
                <a:gridCol w="2384280"/>
                <a:gridCol w="1681200"/>
                <a:gridCol w="1683000"/>
                <a:gridCol w="1679400"/>
                <a:gridCol w="1681200"/>
              </a:tblGrid>
              <a:tr h="90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bito d’interv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ergi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tep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duzione Emission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ton CO</a:t>
                      </a:r>
                      <a:r>
                        <a:rPr b="1" lang="it-IT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o tot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G€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o medio annu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G€/ann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69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nti rinnovabili elettric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- 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– 3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69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nti rinnovabili termic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69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icienza energet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67" name=""/>
          <p:cNvSpPr/>
          <p:nvPr/>
        </p:nvSpPr>
        <p:spPr>
          <a:xfrm>
            <a:off x="0" y="4149720"/>
            <a:ext cx="9144000" cy="28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 risparmio energetico ottenibile da una maggior efficienza degli impianti e delle utilizzazioni risulta quasi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 un ordine di grandezza superio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ll’energia elettrica ottenibile dall’incremento previsto delle fonti rinnovabili, con costi largamente inferiori rispetto a queste ultime, soprattutto se si considera c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costi ambientali dello sviluppo FER non sono mai messi in co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0" y="6480"/>
            <a:ext cx="7067520" cy="685152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5651640" y="5877000"/>
            <a:ext cx="3492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4932360" y="4975200"/>
            <a:ext cx="4211640" cy="18828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5940360" y="0"/>
            <a:ext cx="3203640" cy="10159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dispendios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ucciola cos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6572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0" y="6216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 decennio, i consumi sono cresciuti in proporzione maggiore della produzione rinnovabile, facendo mediamente decrescere l’apporto percentuale di quest’ultim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9144000" cy="6963120"/>
          </a:xfrm>
          <a:prstGeom prst="rect">
            <a:avLst/>
          </a:prstGeom>
          <a:solidFill>
            <a:srgbClr val="99ffcc"/>
          </a:solidFill>
          <a:ln w="93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Iniziative dell’Unione Europea per il rispetto del Protocollo di Kyoto: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direttiva 2001/77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: incentivazione della produz. d’energia elettrica d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fonte rinnovab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direttiva 2003/87: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mercato europeo dei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permessi di emissione gas serra: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2000" spc="-1" strike="noStrike">
                <a:solidFill>
                  <a:srgbClr val="cc0000"/>
                </a:solidFill>
                <a:latin typeface="Arial"/>
              </a:rPr>
              <a:t>(quote prefissate il cui superamento prevede sanzioni</a:t>
            </a:r>
            <a:r>
              <a:rPr b="1" lang="it-IT" sz="2000" spc="-1" strike="noStrike">
                <a:solidFill>
                  <a:srgbClr val="cc0000"/>
                </a:solidFill>
                <a:latin typeface="Arial"/>
              </a:rPr>
              <a:t>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obiettivi 2007 UE per gli stati membri,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entro il 2020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20% d’ energia da fonti rinnovabil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20% di riduzione emissioni CO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20% di riduzione dei consumi</a:t>
            </a:r>
            <a:r>
              <a:rPr b="1" lang="it-IT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- rimodulazione (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dic. 2008)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obiettivi al 2020 per l’Ital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cc0000"/>
                </a:solidFill>
                <a:latin typeface="Arial"/>
              </a:rPr>
              <a:t>-</a:t>
            </a:r>
            <a:r>
              <a:rPr b="1" lang="it-IT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  <a:ea typeface="Arial"/>
              </a:rPr>
              <a:t>energia da fonti rinnovabili:   17% dei consumi fin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  <a:ea typeface="Arial"/>
              </a:rPr>
              <a:t>- energia elettrica rinnovabile: 25 - 30% dei consumi el. totali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  <a:ea typeface="Arial"/>
              </a:rPr>
              <a:t>- riduzione emissioni rispetto al 2005: 14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  <a:ea typeface="Arial"/>
              </a:rPr>
              <a:t>- biocombustibili per trazione: 10% dei consu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  <a:ea typeface="Arial"/>
              </a:rPr>
              <a:t>- risparmio energetico: non quantifica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8532720" y="2492280"/>
            <a:ext cx="432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532720" y="1989000"/>
            <a:ext cx="611280" cy="3599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ro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 u="sng">
                <a:solidFill>
                  <a:srgbClr val="000000"/>
                </a:solidFill>
                <a:uFillTx/>
                <a:latin typeface="Arial"/>
              </a:rPr>
              <a:t>_tot.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O,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4,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1,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3,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0,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24000" y="5661000"/>
            <a:ext cx="84960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0000"/>
                </a:solidFill>
                <a:latin typeface="Arial"/>
              </a:rPr>
              <a:t>I 104 TWh da FER prospettati al 2020 potrebbero coprire ~ il 25% del fabbisogno nazionale, contro l’attuale 17,7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0000"/>
                </a:solidFill>
                <a:latin typeface="Arial"/>
              </a:rPr>
              <a:t>L’incremento produttivo atteso da fonte idaulica è poco significativ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 la produzione elettrica da fonti rinnovabili (FER) nell’ultimo decennio l’Italia ha istitui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 sistema di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ntaggios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ncentiv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on successivi provvedimenti sempre più alletta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Questi provvedimenti stanno determinando un notevole sviluppo impiantistico da FER, non esente da problem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Infatti, l’elevata incentivazione può comportare, oltre ai costi riflessi sull’utenza e sul sistema elettrico, impianti più speculativi che produttivi e danni ambientali immediati e a lungo ter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9T13:24:29Z</dcterms:created>
  <dc:creator> Giancarlo</dc:creator>
  <dc:description/>
  <dc:language>en-US</dc:language>
  <cp:lastModifiedBy>TakeOff</cp:lastModifiedBy>
  <dcterms:modified xsi:type="dcterms:W3CDTF">2009-10-08T14:41:50Z</dcterms:modified>
  <cp:revision>118</cp:revision>
  <dc:subject/>
  <dc:title>   PROSPETTIVE E LIMITI ENERGETICO-AMBIENTALI DELLE FONTI DI ENERGIA RINNOVABILI ATTUALMENTE DISPONIBILI </dc:title>
</cp:coreProperties>
</file>