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3DC-FF24-4CBC-9421-CC7B67FF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A6E-5494-49AC-8E41-A44C225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EC9-6E52-49D4-82E6-87396FA1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EF2-B6F8-4D5F-B992-7974A2F8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0CD-4C5B-4D0C-AAD6-727D47D7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6B3-669F-4CE9-BF85-4AF02D44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C7D-D128-4D78-8A04-655FBC22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4D9-AAB3-4BA7-8F03-C8BCAD72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010-0758-46A1-9418-7452B9CB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B5A-77DA-4A21-8552-A0AF09E0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965-6D67-4AA0-AF90-0C6706E6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4A0-875D-493E-8945-8376503A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64CD-C634-4E7B-B8A6-F85814A6CD94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601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derivazioni idroelettriche in Lombar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ottotitolo 2"/>
          <p:cNvSpPr/>
          <p:nvPr/>
        </p:nvSpPr>
        <p:spPr>
          <a:xfrm>
            <a:off x="814320" y="2962440"/>
            <a:ext cx="73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produzione idroelettrica lombarda  corrisponde all’incirca al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25%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delle produzione idroelettrica nazion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\\Mantova_sr\Lavori\Immagini e logo\Regione\MarchiOrizzontali\C.tif"/>
          <p:cNvPicPr/>
          <p:nvPr/>
        </p:nvPicPr>
        <p:blipFill>
          <a:blip r:embed="rId1"/>
          <a:stretch/>
        </p:blipFill>
        <p:spPr>
          <a:xfrm>
            <a:off x="6400800" y="6400800"/>
            <a:ext cx="2514600" cy="25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Lavori\Immagini e logo\immagini web\Sequenza rosa camuna\rm07.BMP"/>
          <p:cNvPicPr/>
          <p:nvPr/>
        </p:nvPicPr>
        <p:blipFill>
          <a:blip r:embed="rId2"/>
          <a:stretch/>
        </p:blipFill>
        <p:spPr>
          <a:xfrm>
            <a:off x="228600" y="228600"/>
            <a:ext cx="69516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ottotitolo 2"/>
          <p:cNvSpPr/>
          <p:nvPr/>
        </p:nvSpPr>
        <p:spPr>
          <a:xfrm>
            <a:off x="357120" y="1785960"/>
            <a:ext cx="6843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gio Decreto 1775 del 193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Grand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erivazioni: PN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3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iccol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erivazioni: PN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3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ottotitolo 2"/>
          <p:cNvSpPr/>
          <p:nvPr/>
        </p:nvSpPr>
        <p:spPr>
          <a:xfrm>
            <a:off x="357120" y="3643200"/>
            <a:ext cx="87156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sa succede alla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scadenz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della concess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Grand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rivazioni: d. lgs. 79/1999 (decreto Bersani, recepimento della direttiva 96/92/CE) Ri-assegnazione della concessione mediante l’espletamento d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Gar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onerosa ad evidenza pubbl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icco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Derivazioni: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nnov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cessione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’ora non in contrasto con prevalenti motivi di interesse pubblic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\\Mantova_sr\Lavori\Immagini e logo\Regione\MarchiOrizzontali\C.tif"/>
          <p:cNvPicPr/>
          <p:nvPr/>
        </p:nvPicPr>
        <p:blipFill>
          <a:blip r:embed="rId1"/>
          <a:stretch/>
        </p:blipFill>
        <p:spPr>
          <a:xfrm>
            <a:off x="6400800" y="6400800"/>
            <a:ext cx="2514600" cy="25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Lavori\Immagini e logo\immagini web\Sequenza rosa camuna\rm07.BMP"/>
          <p:cNvPicPr/>
          <p:nvPr/>
        </p:nvPicPr>
        <p:blipFill>
          <a:blip r:embed="rId2"/>
          <a:stretch/>
        </p:blipFill>
        <p:spPr>
          <a:xfrm>
            <a:off x="228600" y="228600"/>
            <a:ext cx="695160" cy="695160"/>
          </a:xfrm>
          <a:prstGeom prst="rect">
            <a:avLst/>
          </a:prstGeom>
          <a:ln w="0">
            <a:noFill/>
          </a:ln>
        </p:spPr>
      </p:pic>
      <p:sp>
        <p:nvSpPr>
          <p:cNvPr id="49" name="Titolo 1"/>
          <p:cNvSpPr/>
          <p:nvPr/>
        </p:nvSpPr>
        <p:spPr>
          <a:xfrm>
            <a:off x="928800" y="214200"/>
            <a:ext cx="82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derivazioni idroelettriche in Lombar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4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Grandi Derivazioni Idroelettri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42600" y="1176480"/>
            <a:ext cx="792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Lombardia le concessioni di grandi derivazioni idroelettriche sono 82 per un totale di oltre </a:t>
            </a: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1.300 MW 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di potenza nominale di concessione (oltre 5.000 MW di potenza installata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0" descr="\\Mantova_sr\Lavori\Immagini e logo\Regione\MarchiOrizzontali\C.tif"/>
          <p:cNvPicPr/>
          <p:nvPr/>
        </p:nvPicPr>
        <p:blipFill>
          <a:blip r:embed="rId1"/>
          <a:stretch/>
        </p:blipFill>
        <p:spPr>
          <a:xfrm>
            <a:off x="6400800" y="6400800"/>
            <a:ext cx="2514600" cy="25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Lavori\Immagini e logo\immagini web\Sequenza rosa camuna\rm07.BMP"/>
          <p:cNvPicPr/>
          <p:nvPr/>
        </p:nvPicPr>
        <p:blipFill>
          <a:blip r:embed="rId2"/>
          <a:stretch/>
        </p:blipFill>
        <p:spPr>
          <a:xfrm>
            <a:off x="228600" y="228600"/>
            <a:ext cx="69516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928880" y="3071880"/>
          <a:ext cx="4214880" cy="3500280"/>
        </p:xfrm>
        <a:graphic>
          <a:graphicData uri="http://schemas.openxmlformats.org/drawingml/2006/table">
            <a:tbl>
              <a:tblPr/>
              <a:tblGrid>
                <a:gridCol w="1344600"/>
                <a:gridCol w="2870280"/>
              </a:tblGrid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za Nominale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s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d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,5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Piccole Derivazioni Idroelettri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285920" y="1214280"/>
          <a:ext cx="6572160" cy="4872240"/>
        </p:xfrm>
        <a:graphic>
          <a:graphicData uri="http://schemas.openxmlformats.org/drawingml/2006/table">
            <a:tbl>
              <a:tblPr/>
              <a:tblGrid>
                <a:gridCol w="1047600"/>
                <a:gridCol w="2738520"/>
                <a:gridCol w="2786040"/>
              </a:tblGrid>
              <a:tr h="754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tiche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ive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Istruttoria -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ive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otenza Media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tiche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Istruttoria -              Non Attive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otenza Media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rg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s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nd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m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c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t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10" descr="\\Mantova_sr\Lavori\Immagini e logo\Regione\MarchiOrizzontali\C.tif"/>
          <p:cNvPicPr/>
          <p:nvPr/>
        </p:nvPicPr>
        <p:blipFill>
          <a:blip r:embed="rId1"/>
          <a:stretch/>
        </p:blipFill>
        <p:spPr>
          <a:xfrm>
            <a:off x="6400800" y="6400800"/>
            <a:ext cx="2514600" cy="25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Lavori\Immagini e logo\immagini web\Sequenza rosa camuna\rm07.BMP"/>
          <p:cNvPicPr/>
          <p:nvPr/>
        </p:nvPicPr>
        <p:blipFill>
          <a:blip r:embed="rId2"/>
          <a:stretch/>
        </p:blipFill>
        <p:spPr>
          <a:xfrm>
            <a:off x="228600" y="228600"/>
            <a:ext cx="695160" cy="695160"/>
          </a:xfrm>
          <a:prstGeom prst="rect">
            <a:avLst/>
          </a:prstGeom>
          <a:ln w="0">
            <a:noFill/>
          </a:ln>
        </p:spPr>
      </p:pic>
      <p:sp>
        <p:nvSpPr>
          <p:cNvPr id="59" name="Ovale 5"/>
          <p:cNvSpPr/>
          <p:nvPr/>
        </p:nvSpPr>
        <p:spPr>
          <a:xfrm>
            <a:off x="3286080" y="5715000"/>
            <a:ext cx="7858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e 7"/>
          <p:cNvSpPr/>
          <p:nvPr/>
        </p:nvSpPr>
        <p:spPr>
          <a:xfrm>
            <a:off x="6072120" y="5715000"/>
            <a:ext cx="785880" cy="3571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ottotitolo 2"/>
          <p:cNvSpPr/>
          <p:nvPr/>
        </p:nvSpPr>
        <p:spPr>
          <a:xfrm>
            <a:off x="285840" y="1143000"/>
            <a:ext cx="8429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atich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concessioni di derivazioni già assentite e con provvedimento di concessione in corso di validità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atich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 istruttoria - atti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concessioni di derivazioni già assentite (attive) con provvedimento di concessione scaduto e in fase di rinnovo oppure con in corso istanza di vari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ccia a destra 5"/>
          <p:cNvSpPr/>
          <p:nvPr/>
        </p:nvSpPr>
        <p:spPr>
          <a:xfrm>
            <a:off x="1214280" y="4714920"/>
            <a:ext cx="1857600" cy="5000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7"/>
          <p:cNvSpPr/>
          <p:nvPr/>
        </p:nvSpPr>
        <p:spPr>
          <a:xfrm>
            <a:off x="3286080" y="442908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ali pratiche includono tutte le piccole derivazioni in atto ed ammontano circa a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06 MW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\\Mantova_sr\Lavori\Immagini e logo\Regione\MarchiOrizzontali\C.tif"/>
          <p:cNvPicPr/>
          <p:nvPr/>
        </p:nvPicPr>
        <p:blipFill>
          <a:blip r:embed="rId1"/>
          <a:stretch/>
        </p:blipFill>
        <p:spPr>
          <a:xfrm>
            <a:off x="6400800" y="6400800"/>
            <a:ext cx="2514600" cy="25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Lavori\Immagini e logo\immagini web\Sequenza rosa camuna\rm07.BMP"/>
          <p:cNvPicPr/>
          <p:nvPr/>
        </p:nvPicPr>
        <p:blipFill>
          <a:blip r:embed="rId2"/>
          <a:stretch/>
        </p:blipFill>
        <p:spPr>
          <a:xfrm>
            <a:off x="228600" y="228600"/>
            <a:ext cx="695160" cy="695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Piccole Derivazioni Idroelettri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ottotitolo 2"/>
          <p:cNvSpPr/>
          <p:nvPr/>
        </p:nvSpPr>
        <p:spPr>
          <a:xfrm>
            <a:off x="285840" y="1143000"/>
            <a:ext cx="8858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atich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 istruttoria - non attiv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nuove istanze di derivazioni non ancora attuate e in fase d’istrut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ccia a destra 5"/>
          <p:cNvSpPr/>
          <p:nvPr/>
        </p:nvSpPr>
        <p:spPr>
          <a:xfrm>
            <a:off x="357120" y="3929040"/>
            <a:ext cx="1571760" cy="5000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7"/>
          <p:cNvSpPr/>
          <p:nvPr/>
        </p:nvSpPr>
        <p:spPr>
          <a:xfrm>
            <a:off x="2071800" y="2724120"/>
            <a:ext cx="671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e pratiche sono inclusi tutti i dati relativi al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uove domand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quindi sono ricomprese anche le numerose domande tra di loro “concorrenti”. Pertanto il dato totale d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omand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potenza media pari a circa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64 MW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 sicurament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molto maggio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petto a quello che potrà esse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effettivamente concesso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fatti per l’istanza che sarà concessa le altre istanze concorrenti saranno respint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\\Mantova_sr\Lavori\Immagini e logo\Regione\MarchiOrizzontali\C.tif"/>
          <p:cNvPicPr/>
          <p:nvPr/>
        </p:nvPicPr>
        <p:blipFill>
          <a:blip r:embed="rId1"/>
          <a:stretch/>
        </p:blipFill>
        <p:spPr>
          <a:xfrm>
            <a:off x="6400800" y="6400800"/>
            <a:ext cx="2514600" cy="25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C:\Lavori\Immagini e logo\immagini web\Sequenza rosa camuna\rm07.BMP"/>
          <p:cNvPicPr/>
          <p:nvPr/>
        </p:nvPicPr>
        <p:blipFill>
          <a:blip r:embed="rId2"/>
          <a:stretch/>
        </p:blipFill>
        <p:spPr>
          <a:xfrm>
            <a:off x="228600" y="228600"/>
            <a:ext cx="695160" cy="695160"/>
          </a:xfrm>
          <a:prstGeom prst="rect">
            <a:avLst/>
          </a:prstGeom>
          <a:ln w="0">
            <a:noFill/>
          </a:ln>
        </p:spPr>
      </p:pic>
      <p:sp>
        <p:nvSpPr>
          <p:cNvPr id="72" name="Titolo 1"/>
          <p:cNvSpPr/>
          <p:nvPr/>
        </p:nvSpPr>
        <p:spPr>
          <a:xfrm>
            <a:off x="285840" y="0"/>
            <a:ext cx="8501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Piccole Derivazioni Idroelettr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29:36Z</dcterms:created>
  <dc:creator>Marika Zanotti</dc:creator>
  <dc:description/>
  <dc:language>en-US</dc:language>
  <cp:lastModifiedBy>Marika Zanotti</cp:lastModifiedBy>
  <dcterms:modified xsi:type="dcterms:W3CDTF">2009-06-12T09:07:28Z</dcterms:modified>
  <cp:revision>61</cp:revision>
  <dc:subject/>
  <dc:title>Le derivazioni idroelettriche in Lombardia</dc:title>
</cp:coreProperties>
</file>